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785-8A90-49B8-9C73-0B1B2C8E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27B-0495-41ED-ADE8-01EEDFAC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F7CA-E62C-4A2A-AD44-F627E538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D945-824B-4169-8231-AA2B11ED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4DC-FC33-45C3-A696-5018266C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12A-BDDD-4BAB-8418-D5899108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530-C6F5-4FB6-BC3D-DFC8EC2B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B24-8623-4D32-B889-4658A91D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DD48-6C56-450B-BAC3-2161978E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8556-D7DC-482A-9116-A107F5F9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FE9-1E37-4645-977E-DFC90790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C96B-D55F-4AFD-9C3C-D6266225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BEED-6A0B-48F8-BDE0-2F6F72387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219320"/>
            <a:ext cx="55627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Papyrus"/>
              </a:rPr>
              <a:t>La Rutina de Gerald Pand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Papyrus"/>
              <a:ea typeface="Papyru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2819520"/>
            <a:ext cx="251460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By: Matt Green &amp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Owen Bear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0" y="1371600"/>
            <a:ext cx="876312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La Rutina de Animados</a:t>
            </a:r>
            <a:endParaRPr b="1" lang="en-US" sz="32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76200" y="3111480"/>
            <a:ext cx="6591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y: Owen Bearer Y Matt Gre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acuesta.  Se acuesta a las once de la noche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se duerme ensegui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335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Otto Rock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09680" y="38088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Comic Sans MS"/>
              </a:rPr>
              <a:t>Tommy Pick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7242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Tommy se acuesta.  Se acuesta a las once de la noche.  Él se duerme no ensegu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rnold y Gera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Muchachos se despiertan temperano.  Se lavantan ensegu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01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520" y="380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4572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99ff"/>
                </a:solidFill>
                <a:latin typeface="Comic Sans MS"/>
              </a:rPr>
              <a:t>Aronld y Gera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54100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Comic Sans MS"/>
              </a:rPr>
              <a:t>Los Muchachos se despiertan temperano.  Se lavantan ensegu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a una ducha.   Se lava el pe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548640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Squidward toma una ducha. Se lava su espal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Comic Sans MS"/>
              </a:rPr>
              <a:t>Squidward y Spongebo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5562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El muchcho no se ba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  <a:ea typeface="Arial"/>
              </a:rPr>
              <a:t>ñ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muchacho se pone la 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137160" y="6181560"/>
            <a:ext cx="44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 muchacho se pone la 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80880"/>
            <a:ext cx="95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Ro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muchacho se cepilla los d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498600" y="6257880"/>
            <a:ext cx="63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El muchacho se cepilla los 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3808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Stimp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muchacho se afeita. Se afeita con la nav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43000" y="6105600"/>
            <a:ext cx="89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l muchacho se afeita. Se afeita con la nava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5335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Superm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uchacha se maquilla. Se pone el maquill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5487840"/>
            <a:ext cx="4038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La muchacha se maquilla. Se pone el maquill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38088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Gin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39040" y="5181480"/>
            <a:ext cx="26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La Muchacha se peina. Se mira en el espejo cuando se pi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muchacho se sienta a la mesa. Toma el desayuno. Se desay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19920" y="5334120"/>
            <a:ext cx="296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l muchacho se sienta a la mesa. Toma el desayuno. Se desay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30492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omic Sans MS"/>
              </a:rPr>
              <a:t>Dou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57:58Z</dcterms:created>
  <dc:creator>greenmat</dc:creator>
  <dc:description/>
  <dc:language>en-US</dc:language>
  <cp:lastModifiedBy>greenmat</cp:lastModifiedBy>
  <dcterms:modified xsi:type="dcterms:W3CDTF">2012-04-05T16:00:18Z</dcterms:modified>
  <cp:revision>8</cp:revision>
  <dc:subject/>
  <dc:title>Slide 1</dc:title>
</cp:coreProperties>
</file>